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748-46B0-4718-81B3-B45C293A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0E3-3DAA-4703-A101-5D6C34C0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66534-AC7E-4EB7-8CF8-00030CA2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16877-C89D-4BB5-994C-FB2099D9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3FE11-2E4C-4874-B7D4-73507453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F78B3-E426-4A6F-B070-89579913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2A7F3-D87E-4A74-BCAD-28A6FE1F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0CAF1-22D8-41BE-9078-A24F00DC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E0840-707D-43C4-B32B-46A62D2A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FED17-6FCC-4CBC-B439-C4A6E1AC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46E98-8C7D-4403-8362-E31A4088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91E-8951-4988-B560-0797C5EA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C5D-B2C1-4601-A607-64D0A769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EF49-4E87-4DE0-8023-19F4EA80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9B2F-830A-4EEA-965A-D2C3CB42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7AB8-1965-4A27-8D34-347F8D03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D6C1-EECD-4B32-B4F9-62C9A8C1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5659-71D9-47DA-ACF4-0ADCAE1D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4719-FAC9-478D-999C-EFF1BFF6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BD46-6785-49DE-8B23-2D9B510A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E99-4FE2-426E-9E5E-1A92BD93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8750-D35A-402F-A6D5-C393AC61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8948-9BBF-4D9C-A78A-39B983F7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E05E-D477-4FE0-BF8F-4D65586C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D44F-F0D8-41EA-9DDC-1DAB9584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625D-6735-40B9-AE75-ADF1CA19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56294-8627-49C9-BFA5-268A08C3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4F26-4DFB-4DDD-A7B8-5C63308E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97F1-BAD2-4FAE-BE8E-9382A7D9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599C-C505-426F-80FC-24ACB6DA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F814-F89A-47D7-A2B0-76AED3F8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AD8-166C-4D3E-A106-C5BC1255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B2C1D-1A53-4E81-9CCA-06F87CAE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91E6-AD73-4A57-ABDB-06560783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8649-76B5-44F2-B3F2-D9D138EA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B5A1-6F5D-47BF-AC07-D7C7974F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3927F-E539-4E6F-8B67-BF34104C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4CB96-7E94-4122-8236-D1396A8B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D0C31-19B8-4B5A-8D68-E9BCF4B0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D7C95-A80F-4561-8B29-15659E1E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A5F2B-0CD9-46F1-845E-762FB398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4800-2C5D-4272-9EBA-1835576D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193-7112-44EA-9306-D90C8D9D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983CA-3958-4FA4-B351-C23DEB00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715DD-A730-403A-9EEB-AEF79B6E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5524D-5386-469B-A139-84F92E92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237B7-BA4C-49E9-85D9-405845C2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79C0-8292-4684-928C-8EB6F370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B19A-4512-4A10-8ACE-9D2A4829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3C4EB-D75F-46A2-B75C-A8A1C175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51CAE-47AF-4E30-92DA-247072EC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7B29E-D99B-4257-966F-6A944E2D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D9832-96AE-424C-BFC9-B117DA02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EDC-F8CC-4B71-8EDE-D26936C2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6D7FE-EA9F-457B-9C35-9E87D0CF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95A3F-BD2E-4725-8C57-AC52ECB3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98B3B-1B02-4820-83E5-1B800D39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D4EEF-5720-4567-A1E1-724BE5C3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5A907-D782-4526-82A6-3C6B224F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B2CE4-6F0C-4051-83B5-BAA9C056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F2B1A-35A6-482E-AED1-B0E73B44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3B469-72FB-43C9-B40F-B6C5FD23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B5ECF-7791-4F1B-88C6-C3BF75C1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01893-4DA8-4961-AA91-BB4CDB28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F8F-FEAC-44A0-886F-C30C0422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8FA75-B7E4-491E-AAA9-38CA2C06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8516C-3A52-4C45-8313-B4918221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FE27F-BE5F-47FB-AC63-7451919E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96288-E914-49A6-A5B5-14889FAA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9E782-75B3-497A-B091-59CC81B8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B1098-054E-4966-BF6E-D936AC64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D7D31-1E99-4A70-9F7E-6FE162AA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CD9E7-2C52-477E-9326-F0428C67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A10FD-4562-4E1E-A960-C663B55B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022D6-09F8-4FDA-9063-D56717C8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291-D1FD-4186-9D89-C93C4C69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B4DBE-49EC-4F8D-B436-546BE3B4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3D8CA-D0EC-4B4A-AA3A-40DB53DE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83BCA-5812-4D6E-A6EB-71849AFC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EC2E6-8ADB-4137-A3C8-94FAE1BF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3D0EE-D932-4610-8C5E-AAEC7A8D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A6AF8-7E22-4A55-9F84-2AEE8CA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DEC19-29D3-4F74-A7EA-86DEF6DB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ED83F-94E6-4FFF-97EC-730FCBB6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24830-A323-4894-B013-341F9A30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46EAA-50C7-421F-B9C6-5104167A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432-A66A-42B9-9BCD-D3ED0CA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46395-06D4-455D-91AE-DCA47B6C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09283-6F7C-4068-BB72-0FD3AA57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95164-1DEC-459F-9FF6-3CFC37FC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56CB-5B8E-4C3E-B07A-B69E3EE0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55E38-7D04-445B-BC3F-41AA86C0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E5D13-48DC-48A1-8594-3E9B6DC7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4B32E-3173-4B78-8A8B-7179E68F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67940-F345-4168-8D4B-A33BBBE0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6733C-E5E8-4561-B761-7730F5FA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680FA-5EA4-42ED-8359-E96F865D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B98-1ED8-4384-9AF0-46D9A099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4C59B-F1CC-4AD9-AAD0-C3060866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12CC4-6B78-4BBD-8E4A-653EFEE1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6C2A4-D0B5-4647-8E4C-8DCA43C4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0879F-946F-49BD-85C3-BE5C8DC6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201F0-0E74-47C9-AFF4-B994771A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B4CB9-40E9-4904-A1F1-04D0ED33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50283-6C46-48B7-B057-A576B692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A0ED5-A49F-4347-AE3E-9C983C85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68AE8-2330-49D6-B0C9-5A8CBE0C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38D74-1F33-4CD5-A6AD-738D46E1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2672-8CDA-41B2-98A1-4A8E64E23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8F04-3A29-4636-9281-ACC89B24B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E82F-E517-4D95-BB18-B8CD426BB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Click to edit the title text format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E6C9-4602-4A7E-BF82-65B7C5BC2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57FF-4A03-413B-A5F3-A957BA3DF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B1BA-99D0-4F7C-9DBF-5C5CDF6F4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9183-9EEA-41F5-9758-3792550F6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C9D5-0DBA-476C-B670-3E56638AA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7E93-D1EA-4E92-B06F-E79DA2523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5.3: Exponential Functions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28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Objectives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 between linear and exponential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data with exponential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compound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natural exponential function i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What is an exponential function?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(x)=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&g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&g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is the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is the coe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is raised to the exponent first, the multiplied by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is also the y intercept because 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1 and C*1=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Linear vs. exponential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nential functions look 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343400" y="2590920"/>
            <a:ext cx="4038480" cy="361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Finding exponential growth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xponential growth, the output increases by a constant factor (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ordered pair x=0 y=?, y=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this o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80880" y="3886200"/>
          <a:ext cx="3657600" cy="1270080"/>
        </p:xfrm>
        <a:graphic>
          <a:graphicData uri="http://schemas.openxmlformats.org/drawingml/2006/table">
            <a:tbl>
              <a:tblPr/>
              <a:tblGrid>
                <a:gridCol w="731520"/>
                <a:gridCol w="731520"/>
                <a:gridCol w="731520"/>
                <a:gridCol w="731520"/>
                <a:gridCol w="731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4343400" y="4648320"/>
          <a:ext cx="4038480" cy="1574640"/>
        </p:xfrm>
        <a:graphic>
          <a:graphicData uri="http://schemas.openxmlformats.org/drawingml/2006/table">
            <a:tbl>
              <a:tblPr/>
              <a:tblGrid>
                <a:gridCol w="807480"/>
                <a:gridCol w="807840"/>
                <a:gridCol w="807480"/>
                <a:gridCol w="807840"/>
                <a:gridCol w="80784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Sketching a graph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h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=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(x)= (2)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4870440" cy="4886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ngelina"/>
              </a:rPr>
              <a:t>Your assignment</a:t>
            </a:r>
            <a:endParaRPr b="0" lang="en-US" sz="6000" spc="-1" strike="noStrike">
              <a:solidFill>
                <a:srgbClr val="ccecff"/>
              </a:solidFill>
              <a:latin typeface="Angeli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e 413 #19-24, 43-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1:05:19Z</dcterms:created>
  <dc:creator>nuhs</dc:creator>
  <dc:description/>
  <dc:language>en-US</dc:language>
  <cp:lastModifiedBy>nuhs</cp:lastModifiedBy>
  <dcterms:modified xsi:type="dcterms:W3CDTF">2008-02-28T20:42:28Z</dcterms:modified>
  <cp:revision>4</cp:revision>
  <dc:subject/>
  <dc:title>5.3: Exponential Functions</dc:title>
</cp:coreProperties>
</file>